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0B9-994B-4AFA-86F2-007B5C96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ργα με Δαπάνες &gt; 80% του προϋπολογισμού του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38F-D4F3-4E42-BC79-AA6D28C0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05A-EB0A-4224-9207-69E059E7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876-0D01-470C-A12E-D7AC1AF9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9BC-40CC-4B74-A5FD-9680082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CD7-0309-4FA3-A1C7-50AC85C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C60-E700-48D8-83FD-276AEF9C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40F-08E6-456F-B4C1-EA4374D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87B-7A50-4F73-9407-2111095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8AA-AF72-4006-B680-3D21DEC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A11-E2E0-4CDE-BA07-B06075B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493-D98C-4E83-AB17-6279B4C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B53-B4ED-4053-8664-058D2DA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7CA-8C12-4711-9989-E35F90BD4732}" type="datetime">
              <a:rPr b="0" lang="el-G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1C1-575D-410B-B4C4-3B2F190046FD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AF9-E276-4882-BEA5-5E0ACCEB9E9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8573-D27F-4894-B4AF-93E74DFC06E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00000" y="312840"/>
          <a:ext cx="7786800" cy="6208560"/>
        </p:xfrm>
        <a:graphic>
          <a:graphicData uri="http://schemas.openxmlformats.org/drawingml/2006/table">
            <a:tbl>
              <a:tblPr/>
              <a:tblGrid>
                <a:gridCol w="3402000"/>
                <a:gridCol w="438480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. Βασικά έργα υποδομή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Έργα επέκτασης και αναβάθμισης των ενεργειακών υποδομών της χώρ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Φυσικού Αερίου ΔΔ 15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5 Μεγάλα Έργ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ηλεκτρισμού ΔΔ 100 εκ. €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(1 μεγάλο έργ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Έργα συμπλήρωσης /αναβάθμισης τουριστικών και πολιτιστικών υποδομώ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2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σε τουριστικές και πολιτιστικές υποδομές (αρχαιολογικοί χώροι, μουσεία, καταφύγια τουριστικών σκαφών, αξιοποίηση δημόσιων τουρ. Ακινήτων, κλπ)     (ΔΔ 260 εκ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Δράσεις εξοικονόμησης ενέργειας σε κατοικίες και Ο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7.769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επωφελούνται για την υλοποίηση παρεμβάσεων εξοικονόμησης ενέργειας σε κατοικί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ια την εξοικονόμηση στις κατοικίες έχουν δεσμευτεί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8 εκ. € ΔΔ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δάνεια και άμεσες ενισχύσει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8.80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οικοκυριά αντικατέστησαν 140.000 ενεργοβόρες συσκευές κλιματισμού (46,5 εκ. €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Εξοικονόμησης ενέργειας σ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τικά κτίρια (ΔΔ 80 εκατ. 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7B53-A62C-4B46-8565-0996885369F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8"/>
          <p:cNvSpPr/>
          <p:nvPr/>
        </p:nvSpPr>
        <p:spPr>
          <a:xfrm>
            <a:off x="1116000" y="59500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) Υλοποιούνται από την ΕΥΔ ΕΠΑΕ στο πλαίσιο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χώρησης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από το ΕΠ Εθνικό Αποθεματικό Απροβλέπτων 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113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.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 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και το ΕΠ Ανάπτυξη Ανθρώπινου Δυναμικού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 (</a:t>
            </a:r>
            <a:r>
              <a:rPr b="0" lang="en-US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22 </a:t>
            </a:r>
            <a:r>
              <a:rPr b="0" lang="el-GR" sz="1200" spc="-1" strike="noStrike" u="sng">
                <a:solidFill>
                  <a:srgbClr val="417cb1"/>
                </a:solidFill>
                <a:uFillTx/>
                <a:latin typeface="Arial"/>
                <a:ea typeface="Arial"/>
              </a:rPr>
              <a:t>εκ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.</a:t>
            </a:r>
            <a:r>
              <a:rPr b="0" lang="el-GR" sz="1200" spc="-1" strike="noStrike">
                <a:solidFill>
                  <a:srgbClr val="417cb1"/>
                </a:solidFill>
                <a:latin typeface="Arial"/>
                <a:ea typeface="Arial"/>
              </a:rPr>
              <a:t> €</a:t>
            </a:r>
            <a:r>
              <a:rPr b="0" lang="en-US" sz="1200" spc="-1" strike="noStrike">
                <a:solidFill>
                  <a:srgbClr val="417cb1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476280"/>
          <a:ext cx="7632720" cy="5340240"/>
        </p:xfrm>
        <a:graphic>
          <a:graphicData uri="http://schemas.openxmlformats.org/drawingml/2006/table">
            <a:tbl>
              <a:tblPr/>
              <a:tblGrid>
                <a:gridCol w="3967200"/>
                <a:gridCol w="3665520"/>
              </a:tblGrid>
              <a:tr h="100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χέδια για στήριξη επιχειρηματικότητας και ενίσχυσης απασχόλησης και για την προσαρμοστικότητα εργαζομένων και επιχειρήσεων (ΕΚΤ)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ο Σχέδιο Παρέμβασης για τη στήριξη της επιχειρηματικότητας και της απασχόλησης (Στήριξη πρωτοβουλιών ανέργων και νέων επιχειρηματιών, Συμβουλευτική και κατάρτιση σε  επιχειρήσεις και παροχή κινήτρων για δημιουργία απασχόληση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1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η παρέμβαση για τη στήριξη της γυναικείας απασχόλησης μέσω ενίσχυσης της επιχειρηματικότητας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Ίδρυση νέων επιχειρήσεων, Στήριξη υφιστάμενων και νεοιδρυθεισών επιχειρήσεω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83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ηματικά σχέδια,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άμεσης παρέμβασης (επαναπροσανατολισμός, κατάρτιση πιστοποίηση), για απολυμένους και απειλούμενους με ανεργί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.5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φελούμενου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3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για την προσαρμοστικότητα εργαζομένων και επιχειρήσεων (</a:t>
                      </a:r>
                      <a:r>
                        <a:rPr b="0" lang="el-G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κατάρτιση/ επανακατάρτιση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γαζομένω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με σύνολο ωφελουμένων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7.0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γαζόμενους και εποχιακά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άνεργους,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8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κ. € (Δ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A072-B27A-4CC5-A13E-AAF5444DE2E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26C2-DBEF-4AB5-A377-733D36D36004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525-2CB5-48A4-BD6A-18E11EA1AF5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647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Υποστήριξη παραγωγικών επενδύσεων με προτεραιότητα την προώθηση της εξωστρέφειας, της καινοτομίας και της πράσινης ανάπτυξης σε μεταποίηση, τουρισμό, εμπόριο-υπηρεσίες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2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ενδυτικά σχέδ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της πρόσβασης των ΜΜΕ σε κεφάλαια επενδυτικά και επιχειρηματικής ανάπτυξης μέσω χρηματοοικονομικών εργαλείων  (πάνω από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6.3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ήσεις έχουν επωφεληθεί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50000"/>
              </a:lnSpc>
              <a:spcBef>
                <a:spcPts val="451"/>
              </a:spcBef>
              <a:spcAft>
                <a:spcPts val="1800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έρευνας, της τεχνολογικής ανάπτυξης, της καινοτομίας και της ενσωμάτωσής τους στον παραγωγικό ιστό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.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έργα με συμμετοχή ερευνητικών φορέων και επιχειρήσεων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  <a:ea typeface="Arial"/>
              </a:rPr>
              <a:t>1.304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επιχειρήσεις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ου επωφελούνται από σχετικές δράσει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BCE-D48F-40BE-9C21-D58055FA6725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561-CBE5-474D-8277-97A689ADCF2B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920" y="404640"/>
            <a:ext cx="7647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δράσεις ΕΤΠ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ώθηση της εξοικονόμησης ενέργειας στις κατοικίες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46.5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οικοκυριά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Επέκταση και αναβάθμιση των υποδομών φυσικού αερίου και ηλεκτρισμού της χώρα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του τουριστικού προϊόντος: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30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υριστικές κλίνες εκσυγχρονίζονται ή δημιουργούντα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άπτυξη και βελτίωση των τουριστικών και πολιτιστικών υποδομών, με στόχο την ποιοτική αναβάθμιση και την επιμήκυνση της τουριστικής περιόδου (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20 έργα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ιατήρηση και δημιουργία θέσεων άνω των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  <a:ea typeface="Arial"/>
              </a:rPr>
              <a:t>100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έσεων  απασχόλ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296E-A813-4233-9660-13BE27722CB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60F-7C6D-49D6-8624-AA3623CA08F1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404640"/>
            <a:ext cx="75027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υριότερα Αποτελέσματα από παρεμβάσεις ΕΚ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e1f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ήριξη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5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πιχειρηματικών σχεδ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ημιουργί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0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έσεων απασχόλησης  (νέων επιχειρηματιών και εργαζομένων στις νέες επιχειρήσει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αναπροσανατολισμός και κατάρτιση σε νέες ειδικότητες για </a:t>
            </a:r>
            <a:br>
              <a:rPr sz="1800"/>
            </a:b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6.5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απολυμένους και απειλούμενους με ανεργ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ιστοποίηση προσόντων </a:t>
            </a:r>
            <a:r>
              <a:rPr b="1" lang="en-US" sz="1800" spc="-1" strike="noStrike">
                <a:solidFill>
                  <a:srgbClr val="417cb1"/>
                </a:solidFill>
                <a:latin typeface="Calibri"/>
              </a:rPr>
              <a:t>800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τόμων απειλούμενων με ανεργ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βάθμιση προσόντων για </a:t>
            </a:r>
            <a:r>
              <a:rPr b="1" lang="el-GR" sz="1800" spc="-1" strike="noStrike">
                <a:solidFill>
                  <a:srgbClr val="417cb1"/>
                </a:solidFill>
                <a:latin typeface="Calibri"/>
              </a:rPr>
              <a:t>27.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ργαζόμενους με θετικά αποτελέσματα υπέρ της εξωστρέφειας και της προσαρμογής των επιχειρήσεων στις νέες συνθήκες της αγορά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8240-51CC-4911-8613-247981114DEF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F51-1971-4C73-91A2-1BF4B7E7D1C4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499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ημαντικότερα Προβλήματ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αμηλός βαθμός ανταπόκρισης του ιδιωτικού τομέα στις δράσεις άμεσης ενίσχυσης λόγω κρίσης και αβεβαιότητας του επιχειρηματικού περιβάλλοντος, σε συνδυασμό με την κρίση του τραπεζικού συστήματος και την έλλειψη ρευστότητ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υσκολίες στην αξιοποίηση των Ταμείων λόγω του αρνητικού οικονομικού  κλίματος,  των προβλημάτων του τραπεζικού τομέα και σε κάποιο βαθμό και της ίδιας της οργάνωσης και  λειτουργίας τ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τις διαδικασίες ωρίμανσης, αξιολόγησης και εφαρμογής δράσεων Ε&amp;ΤΑ /Μειωμένη ανταπόκριση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51"/>
              </a:spcBef>
              <a:spcAft>
                <a:spcPts val="1199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υστερήσεις σε υλοποίηση ενεργειακών έργων υποδομής λόγω σημαντικού χρόνου ωρίμανσης και ανάγκης τεκμηρίωσης τήρησης των κανόνων ανταγωνισμού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1AE-6906-4F36-AF14-F56187D3250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B51-5BBC-4401-A3B2-EF124AD6E7A0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61920" y="549000"/>
            <a:ext cx="77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 Ενέργειε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ελτίωση πλαισίου κινήτρων προς επιχειρήσεις και ωφελούμενου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υψηλότερα ποσοστά ενίσχυσης, διεύρυνση επιλεξιμότητας ενεργειών και δαπανών, διευκολύνσεις στη χρηματοδότηση των έργων, κ.ά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δυασμός με χρηματοδοτικά εργαλεία για διευκόλυνση χρηματοδότ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προσαρμογή Οδηγών Εφαρμογής κρατικών ενισχύσεων με σκοπό την απλοποίηση και επιτάχυνση των διαδικασιών πιστοποίησης και εκταμίευσης,  παρατάσεις προθεσμιών υλοποίη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σχεδιασμός, αναπροσαρμογή και συνεχής παρακολούθηση των χρηματοοικονομικών εργαλείων (πχ εισαγωγή κεφαλαίου κίνηση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θιέρωση ηλεκτρονικής  υποβολής, αξιολόγηση, παρακολούθηση, πιστοποίηση και πληρωμή των έργων με αποτέλεσμα την επιτάχυνση και την αντικειμενικοποίηση  των διαδικασιώ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εχής συνεργασία με τους εμπλεκόμενους σε όλα τα στάδια: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φορείς προγραμματισμού, ενδιάμεσους φορείς  διαχείρισης , δικαιούχου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A52-1F9D-4740-89E3-885500399D1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42BF-CDF1-49F4-957B-3A5E3B55A74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15640" y="620640"/>
            <a:ext cx="7488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μπερασματικά  για  το  ΕΠΑΝ ΙΙ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ποτελεί κρίσιμο αναπτυξιακό εργαλείο και μέσο ουσιαστικής αντιμετώπισης της κρίση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 κεντρικός στόχος και η στρατηγική του παραμένουν επίκαιροι αποκτώντας καθοριστική κρισιμότητα για έξοδο από την κρίση και ανάκαμψ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9080">
              <a:spcBef>
                <a:spcPts val="60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ι κρατικές ενισχύσεις αποτελούν σημαντικό μηχανισμό μόχλευσης, παρά τις δυσκολίες, με θετική συμβολή: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βελτίωση των παραγωγικών  διαδικασιώ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α οικονομικά μεγέθη (τζίρος εξαγωγές)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η διατήρηση της απασχόληση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- στους επιμέρους στόχους (πχ προώθηση σε ξένες αγορές στην Εξωστρέφει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796-0035-42B6-835F-49DBB88232D6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FF8-7E3E-4675-80B0-C1220C34A983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6920" y="620640"/>
            <a:ext cx="7272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τόχοι  για…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Καλύτερη αντιστοίχιση με ανάγκες αλλά και προοπτικές επιχειρήσεω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εραιτέρω απλούστευση διαδικασιών, ευελιξία και στόχευση στο αποτέλεσμ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ξιοποίηση για συνδυασμό των χρηματοδοτικών εργαλείων, ώστε οι ενισχύσεις να είναι «σύνθετες» για να ανταποκρίνονται στο σύνθετο επενδυτικό σχεδιασμό των επιχειρήσε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«Ανοιχτές» προκηρύξεις (οι επενδύσεις δεν μπορούν να ακολουθούν το συγχρονισμό των προκηρύξεω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spcAft>
                <a:spcPts val="601"/>
              </a:spcAft>
              <a:buClr>
                <a:srgbClr val="417c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εγαλύτερη έμφαση στην παρακολούθηση &amp; αξιολόγηση των δράσεων κατά την εφαρμογή και αποτίμηση των αποτελεσμάτ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707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ahoma"/>
              </a:rPr>
              <a:t>Δημοσιότητα - Προβολ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4 - Θέση περιεχομένου" descr="antagonistikotita-final.jpg"/>
          <p:cNvPicPr/>
          <p:nvPr/>
        </p:nvPicPr>
        <p:blipFill>
          <a:blip r:embed="rId1"/>
          <a:stretch/>
        </p:blipFill>
        <p:spPr>
          <a:xfrm>
            <a:off x="1309680" y="3457440"/>
            <a:ext cx="2376360" cy="3022560"/>
          </a:xfrm>
          <a:prstGeom prst="rect">
            <a:avLst/>
          </a:prstGeom>
          <a:ln w="9360">
            <a:solidFill>
              <a:srgbClr val="38b2a3"/>
            </a:solidFill>
            <a:miter/>
          </a:ln>
        </p:spPr>
      </p:pic>
      <p:sp>
        <p:nvSpPr>
          <p:cNvPr id="107" name="5 - TextBox"/>
          <p:cNvSpPr/>
          <p:nvPr/>
        </p:nvSpPr>
        <p:spPr>
          <a:xfrm>
            <a:off x="4140360" y="907920"/>
            <a:ext cx="4464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Έμφαση στην προβολή επιχειρηματιών που  υλοποίησαν με επιτυχία τα επενδυτικά τους σχέδια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Ανάδειξη θετικών προτύπω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  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Tahoma"/>
              </a:rPr>
              <a:t>Ενίσχυση διαφάνειας και προτροπή για συμμετοχή στις Προκηρύξει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8 - Εικόνα" descr="video epitropis.jpg"/>
          <p:cNvPicPr/>
          <p:nvPr/>
        </p:nvPicPr>
        <p:blipFill>
          <a:blip r:embed="rId2"/>
          <a:stretch/>
        </p:blipFill>
        <p:spPr>
          <a:xfrm>
            <a:off x="1028880" y="981000"/>
            <a:ext cx="2966760" cy="1944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9" name="9 - Εικόνα" descr="10502144_254208251443861_6844370233449726043_n.jpg"/>
          <p:cNvPicPr/>
          <p:nvPr/>
        </p:nvPicPr>
        <p:blipFill>
          <a:blip r:embed="rId3"/>
          <a:stretch/>
        </p:blipFill>
        <p:spPr>
          <a:xfrm>
            <a:off x="4427640" y="3355920"/>
            <a:ext cx="3744720" cy="24494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0" name="3 - Εικόνα" descr="facebook.png"/>
          <p:cNvPicPr/>
          <p:nvPr/>
        </p:nvPicPr>
        <p:blipFill>
          <a:blip r:embed="rId4"/>
          <a:stretch/>
        </p:blipFill>
        <p:spPr>
          <a:xfrm>
            <a:off x="468000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1" name="9 - Εικόνα" descr="twitter.png"/>
          <p:cNvPicPr/>
          <p:nvPr/>
        </p:nvPicPr>
        <p:blipFill>
          <a:blip r:embed="rId5"/>
          <a:stretch/>
        </p:blipFill>
        <p:spPr>
          <a:xfrm>
            <a:off x="5475240" y="59500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12" name="10 - Εικόνα" descr="linkedin.png"/>
          <p:cNvPicPr/>
          <p:nvPr/>
        </p:nvPicPr>
        <p:blipFill>
          <a:blip r:embed="rId6"/>
          <a:stretch/>
        </p:blipFill>
        <p:spPr>
          <a:xfrm>
            <a:off x="6192720" y="5950080"/>
            <a:ext cx="505080" cy="455400"/>
          </a:xfrm>
          <a:prstGeom prst="rect">
            <a:avLst/>
          </a:prstGeom>
          <a:ln w="0">
            <a:noFill/>
          </a:ln>
        </p:spPr>
      </p:pic>
      <p:pic>
        <p:nvPicPr>
          <p:cNvPr id="113" name="11 - Εικόνα" descr="YouTube-logo-full_color.png"/>
          <p:cNvPicPr/>
          <p:nvPr/>
        </p:nvPicPr>
        <p:blipFill>
          <a:blip r:embed="rId7"/>
          <a:stretch/>
        </p:blipFill>
        <p:spPr>
          <a:xfrm>
            <a:off x="6769080" y="5686560"/>
            <a:ext cx="1187640" cy="982440"/>
          </a:xfrm>
          <a:prstGeom prst="rect">
            <a:avLst/>
          </a:prstGeom>
          <a:ln w="0">
            <a:noFill/>
          </a:ln>
        </p:spPr>
      </p:pic>
      <p:sp>
        <p:nvSpPr>
          <p:cNvPr id="114" name="Ορθογώνιο 1"/>
          <p:cNvSpPr/>
          <p:nvPr/>
        </p:nvSpPr>
        <p:spPr>
          <a:xfrm>
            <a:off x="971640" y="3284640"/>
            <a:ext cx="31687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www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antagonistikotita</a:t>
            </a: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Tahoma"/>
                <a:ea typeface="Tahoma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Ορθογώνιο 2"/>
          <p:cNvSpPr/>
          <p:nvPr/>
        </p:nvSpPr>
        <p:spPr>
          <a:xfrm>
            <a:off x="1403280" y="6021360"/>
            <a:ext cx="230508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1f497d"/>
                </a:solidFill>
                <a:latin typeface="Tahoma"/>
                <a:ea typeface="Tahoma"/>
              </a:rPr>
              <a:t>801 11 36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A8CD-9CC6-480C-A764-26724B5EE198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EDD-2959-4D7C-A58C-AD6BC37383A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427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Κύριος αναπτυξιακός στόχ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 βελτίωση της ανταγωνιστικότητας και της εξωστρέφειας των επιχειρήσεων, καθώς και του παραγωγικού συστήματος της χώρας γενικότερα, με έμφαση στην καινοτομία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Τομείς παρέμβαση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ιομηχανία - Μεταποίη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ί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έργει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ουρισμός και Πολιτισμό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μπόριο και Προστασία Καταναλωτ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1403280" y="5429160"/>
            <a:ext cx="701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Arial"/>
              </a:rPr>
              <a:t>Με τη συγχρηματοδότηση της Ελλάδας και της Ευρωπαϊκής Ένωσης - Ευρωπαϊκό Ταμείο Περιφερειακής Ανάπτυξης (ΕΤΠΑ), στο πλαίσιο του Ε.Π. Ανταγωνιστικότητα και Επιχειρηματικότητα (ΕΠΑΝ ΙΙ) και των Π.Ε.Π. Αττικής, Μακεδονίας - Θράκης, Κρήτης και Νήσων Αιγαίου, Θεσσαλίας - Στερεάς Ελλάδας - Ηπείρο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flag_2colors_ΕΤΠΑ"/>
          <p:cNvPicPr/>
          <p:nvPr/>
        </p:nvPicPr>
        <p:blipFill>
          <a:blip r:embed="rId1"/>
          <a:stretch/>
        </p:blipFill>
        <p:spPr>
          <a:xfrm>
            <a:off x="1547640" y="2760840"/>
            <a:ext cx="1243080" cy="122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EPAN-LOGOS FINALplagioN copy"/>
          <p:cNvPicPr/>
          <p:nvPr/>
        </p:nvPicPr>
        <p:blipFill>
          <a:blip r:embed="rId2"/>
          <a:stretch/>
        </p:blipFill>
        <p:spPr>
          <a:xfrm>
            <a:off x="3481560" y="2717640"/>
            <a:ext cx="2027160" cy="121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logo_YPAAN_new 2013_EYD_1"/>
          <p:cNvPicPr/>
          <p:nvPr/>
        </p:nvPicPr>
        <p:blipFill>
          <a:blip r:embed="rId3"/>
          <a:stretch/>
        </p:blipFill>
        <p:spPr>
          <a:xfrm>
            <a:off x="3132000" y="692280"/>
            <a:ext cx="3743640" cy="133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logo_espa"/>
          <p:cNvPicPr/>
          <p:nvPr/>
        </p:nvPicPr>
        <p:blipFill>
          <a:blip r:embed="rId4"/>
          <a:stretch/>
        </p:blipFill>
        <p:spPr>
          <a:xfrm>
            <a:off x="6156360" y="2806560"/>
            <a:ext cx="2084400" cy="1097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ιδική Υπηρεσία Διαχείριση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χειρησιακού Προγράμμα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Ανταγωνιστικότητα και Επιχειρηματικότητα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» 2007-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(ΕΥΔ ΕΠΑ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γγελική Φέτσ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ΟΝΑΔΑ Α1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ρογραμματισμού και Αξιολόγησης Ε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antagonistikotita.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BD97-82AD-45EB-9D7D-FDE867D2983A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7465-D309-45CF-8703-588E1643962C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Άξονες Προτεραιότητ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ημιουργία και αξιοποίηση της καινοτομίας υποστηριζόμενης από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έρευνα και τεχνολογική ανάπτυξ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νίσχυση της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ότητας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και της Εξωστρέφει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ελτίωση 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πιχειρηματικού περιβάλλοντ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Ολοκλήρωση του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νεργειακού συστήματος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της χώρας και ενίσχυση της αειφορία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7308720" y="1123920"/>
            <a:ext cx="142920" cy="576360"/>
          </a:xfrm>
          <a:custGeom>
            <a:avLst/>
            <a:gdLst>
              <a:gd name="textAreaLeft" fmla="*/ 0 w 142920"/>
              <a:gd name="textAreaRight" fmla="*/ 51480 w 142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554960" y="112536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3,1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55640" y="476280"/>
            <a:ext cx="6481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Διαθέσιμο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Προϋπολογισμό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ΕΤΠ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ΠΑΝ ΙΙ :                                                         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71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Calibri"/>
                <a:ea typeface="Arial"/>
              </a:rPr>
              <a:t>Π/Υ Εκχώρησης 2014 (με Δράση ΜΜΕ):        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      </a:t>
            </a:r>
            <a:r>
              <a:rPr b="1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1,43</a:t>
            </a:r>
            <a:r>
              <a:rPr b="0" lang="el-GR" sz="1600" spc="-1" strike="noStrike">
                <a:solidFill>
                  <a:srgbClr val="0000ff"/>
                </a:solidFill>
                <a:latin typeface="Calibri"/>
                <a:ea typeface="Arial"/>
              </a:rPr>
              <a:t> δις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42920" y="5805360"/>
            <a:ext cx="770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Βάσει του Κανονισμού 1297/2013 το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top up (+10%) </a:t>
            </a:r>
            <a:r>
              <a:rPr b="0" lang="el-GR" sz="1100" spc="-1" strike="noStrike">
                <a:solidFill>
                  <a:srgbClr val="000000"/>
                </a:solidFill>
                <a:latin typeface="Calibri"/>
                <a:ea typeface="Arial"/>
              </a:rPr>
              <a:t>θα εφαρμοσθεί και κατά την ολοκλήρωση των Προγραμμάτων πάνω στην εγκεκριμένη Κοινοτική Συνδρομή (85%) για τις δαπάνες από 1/1/2010 και εξή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7740720" y="191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813800" y="2278080"/>
            <a:ext cx="107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 u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24720" y="3430440"/>
            <a:ext cx="1409760" cy="719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2,84 δις € Δ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7"/>
          <p:cNvGraphicFramePr/>
          <p:nvPr/>
        </p:nvGraphicFramePr>
        <p:xfrm>
          <a:off x="1187280" y="1916280"/>
          <a:ext cx="5848560" cy="35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84856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AEC-E16B-4437-870E-C5A2B265446D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ACAC-3CD4-4343-B870-2B2BDCA89370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793116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Συνολικές Επιδόσει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(Σεπτ.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8"/>
          <p:cNvGraphicFramePr/>
          <p:nvPr/>
        </p:nvGraphicFramePr>
        <p:xfrm>
          <a:off x="755640" y="1341360"/>
          <a:ext cx="770400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0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BCC9-3F8F-40F6-B405-DC54AC7A86A7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86E-BFB3-4293-AFDC-619719D39FBD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Βασικές Κατηγορίες Δράσεω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ΕΥΔ ΕΠΑ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χευμένες κρατικές ενισχύσεις κυρίως για ΜΜΕ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τους τομείς μεταποίησης, τουρισμού, εμπορί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Ιδιωτικές επενδύσεις μέσω Αναπτυξιακού Νόμ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ηματοδοτικά εργαλεία γι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η ενίσχυσης ΜΜΕ των ΠΕ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δράσεων έρευνας και τεχνολογί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επέκτασης και αναβάθμισης ενεργειακών υποδομών της χώρα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ργα συμπλήρωσης /αναβάθμισης τουριστικών και πολιτιστικών υποδομών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ράσεις εξοικονόμησης ενέργει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χέδια για στήριξη επιχειρηματικότητας και ενίσχυσης απασχόλησης και για την προσαρμοστικότητα εργαζομένων και επιχειρήσεων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μέσω ΕΚ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71640" y="404640"/>
          <a:ext cx="7921440" cy="5497560"/>
        </p:xfrm>
        <a:graphic>
          <a:graphicData uri="http://schemas.openxmlformats.org/drawingml/2006/table">
            <a:tbl>
              <a:tblPr/>
              <a:tblGrid>
                <a:gridCol w="4591080"/>
                <a:gridCol w="333036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τοχευμένες Κρατικές Ενισχύσεις κυρίως για ΜΜ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εταποίηση στις νέες συνθήκε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.05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, 925 εκατ. € </a:t>
                      </a:r>
                      <a:br>
                        <a:rPr sz="1800"/>
                      </a:b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(430 εκατ. € Δ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λοκληρωμέ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28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όμες επιχειρηματικές δραστηριότη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.000</a:t>
                      </a:r>
                      <a:r>
                        <a:rPr b="0" lang="el-GR" sz="18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ή υπό σύσταση επιχειρήσε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ξωστρέφεια Ι και  Ι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α Καινοτομική Επιχειρηματικότητ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άσινες υποδομές &amp;  Πράσινη επιχείρησ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αλλακτικός Τουρισμός  &amp; Πράσινος Τουρισμό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ηματικότητα στοχευμένων  ομάδων (νέων, γυναικώ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Ένδυση- Υπόδηση 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Εκσυγχρονισμός χερσαίων εμπορευματικών οδικών μεταφορώ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Μετεγκατάσταση επιχειρήσεων σε ΒΕΠΕ και Επιχειρηματικά Πάρκ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7A3-B497-4EE6-9342-1A77874AAED0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260280"/>
          <a:ext cx="8172720" cy="6203880"/>
        </p:xfrm>
        <a:graphic>
          <a:graphicData uri="http://schemas.openxmlformats.org/drawingml/2006/table">
            <a:tbl>
              <a:tblPr/>
              <a:tblGrid>
                <a:gridCol w="4248360"/>
                <a:gridCol w="3924360"/>
              </a:tblGrid>
              <a:tr h="11332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4. Ειδικές Δράσεις για επιχειρήσει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Ιδιωτικές επενδύσεις στους τομείς Μεταποίησης, Τουρισμού, Εφοδιαστικής αλυσίδας και Ανανεώσιμων Πηγών Ενέργεια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Επενδ. Ν. 3299/200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9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(συνολικά)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2.490 εκατ. € (1.080 εκατ. € Δ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4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νέες ή υπό σύσταση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90</a:t>
                      </a:r>
                      <a:r>
                        <a:rPr b="0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ΑΠ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Χρηματοδοτικά Εργαλεία για επιχειρήσει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ΤΕΠΙΧ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άνεια γενικής επιχειρηματικότητας, για εξωστρέφεια, τουρισμό, πράσινες επενδύσεις, Επιχειρηματική επανεκκίνηση, Νησιωτική Επιχειρηματικότητα, Ταμείο Εγγυοδοσί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ΕΛΤΕΠ ΜΜ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Ταμείο Εγγυοδοσί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JEREMIE</a:t>
                      </a:r>
                      <a:r>
                        <a:rPr b="0" lang="el-G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αμείο επιμερισμού επιχειρηματικού κινδύνου, Μικροδάνε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09 δις € (ΔΔ)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εσμευμέν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2,7 δις €</a:t>
                      </a:r>
                      <a:r>
                        <a:rPr b="1" lang="en-US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θέσιμα κεφάλαια (μέσω ιδιωτικής μόχλευση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518bb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Πάνω από 6.300 επιχειρήσεις</a:t>
                      </a:r>
                      <a:r>
                        <a:rPr b="0" lang="el-GR" sz="1600" spc="-1" strike="noStrike">
                          <a:solidFill>
                            <a:srgbClr val="0e1f9e"/>
                          </a:solidFill>
                          <a:latin typeface="Calibri"/>
                          <a:ea typeface="Tahoma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άνουν χρήση των εργαλείων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μέχρι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τιγμής για δανειακά κεφάλαια ύψου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00 εκατ.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«Ενίσχυση ΜΜΕ στους τομείς Μεταποίησης, Τουρισμού, Εμπορίου – Υπηρεσιών»  (μέσω των ΠΕ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3.415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ργ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,74 δις €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ΔΔ 865 εκατ.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B4C-1B21-4EAA-909A-3284040BB28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71640" y="425520"/>
          <a:ext cx="7561080" cy="5837040"/>
        </p:xfrm>
        <a:graphic>
          <a:graphicData uri="http://schemas.openxmlformats.org/drawingml/2006/table">
            <a:tbl>
              <a:tblPr/>
              <a:tblGrid>
                <a:gridCol w="4581360"/>
                <a:gridCol w="2979720"/>
              </a:tblGrid>
              <a:tr h="1133280">
                <a:tc gridSpan="2"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Ενίσχυση δράσεων έρευνας και τεχνολογ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σίες επιχειρήσεων με ερευνητικούς φορείς για έργα σε τομείς προτεραιότητα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ισχύονται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.100 αυτοτελή έργα Ε&amp;Τ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μέσω των οποίων υλοποιούνται τα ακόλουθα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00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έργα συνεργασίας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64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ειρήσεων με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724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ρευνητικούς φορεί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5 </a:t>
                      </a:r>
                      <a:r>
                        <a:rPr b="1" lang="en-US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clusters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ινοτομίας, στα οποία συμμετέχουν</a:t>
                      </a:r>
                      <a:r>
                        <a:rPr b="1" lang="el-GR" sz="16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06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κ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1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ρευνητικά ινστιτού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39 καινοτόμε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επιχειρήσει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χορηγούνται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15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κουπόνια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καινοτομίας σε ΜΜ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417cb1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   </a:t>
                      </a:r>
                      <a:r>
                        <a:rPr b="1" lang="el-GR" sz="1400" spc="-1" strike="noStrike">
                          <a:solidFill>
                            <a:srgbClr val="417cb1"/>
                          </a:solidFill>
                          <a:latin typeface="Calibri"/>
                        </a:rPr>
                        <a:t>400 ερευνητικοί φορείς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συμμετέχουν σε διμερείς και διεθνείς συνεργασίες με άλλες χώρες ή σε συνέργεια με ευρωπαϊκή πολιτική Ε&amp;Τ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ίσχυση για ανάπτυξη  Συνεργατικών Σχηματισμών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usters)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έντασης γνώσης σε τομείς προτεραιότητα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Μικροηλεκτρονική/ ΤΠΕ/ Υγεία / Βιοιατρική/ Υλικά/ Ενέργεια/ Περιβάλλο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έες καινοτόμες επιχειρήσεις έντασης γνώσης </a:t>
                      </a:r>
                      <a:br>
                        <a:rPr sz="1600"/>
                      </a:b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 off – spin out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στήριξη νέων ΜΜΕ &amp; ομάδων ΜΜΕ για δραστηριότητες Ε&amp;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υπόνια Καινοτομίας σε ΜΜ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υρωπαϊκή και Διεθνής Συνεργασία στην Έρευνα και Τεχνολογί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5 - Θέση αριθμού διαφάνειας"/>
          <p:cNvSpPr/>
          <p:nvPr/>
        </p:nvSpPr>
        <p:spPr>
          <a:xfrm>
            <a:off x="65530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4D2-61F3-4EE9-96B9-76EF6FE02C9E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0:02:07Z</dcterms:created>
  <dc:creator>user</dc:creator>
  <dc:description/>
  <dc:language>en-US</dc:language>
  <cp:lastModifiedBy>Angeliki</cp:lastModifiedBy>
  <cp:lastPrinted>2014-09-17T13:39:59Z</cp:lastPrinted>
  <dcterms:modified xsi:type="dcterms:W3CDTF">2014-09-18T04:50:02Z</dcterms:modified>
  <cp:revision>921</cp:revision>
  <dc:subject/>
  <dc:title>Διαφάνεια 1</dc:title>
</cp:coreProperties>
</file>